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5A9-FB05-40BB-BD97-B2F6D002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B0C-F413-4AE1-AF85-5215FDA0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182-5547-4A28-8158-EF0D27C4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523-91E5-42BF-AEFD-6FF72810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56F-8F74-4775-9543-A3902100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B76-B019-4B22-8EB7-D7F0F26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24B-F82B-4472-9AF3-7245E3E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586-3612-406B-881F-EC2CEA3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C5E-C1A5-4778-8DDF-33DD7AC4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CA7-6D07-4894-9916-D23281C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B9B-FB13-41E7-8809-68224085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83C-2C74-4696-B058-79E6AD5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603E-5F91-43F4-9879-1273630BF45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MPERAMENTUL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limbaj popular temperamentul= firea omu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6520" cy="535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623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GVI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legmat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m, imperturbabil, chiar 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ilibru emotional, fiind putin reactiv din acest punct de vedere, dar cu sentimente dur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izat de rabdare si toler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dapteaza mai greu si trece cu o oarecare dificultate de la o activitate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iculos, inclinat spre ru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164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8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0360" y="623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GMA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lancol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v si sensibil, are dificultati de adap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te de lucru redusa, dar obtine un randament progres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inat spre reverie si interior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ernic afectat de insuccese, compenseaza insuccesele prin inchiderea in 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bil de activitati de mig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618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80440" cy="567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43280" y="63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ANCO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istici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ind dependent de tipul de A.N.S) si dec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linii ma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 tot parcursul vieti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n punct de vedere valor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re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st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bi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 influentat prin mijloace educationale)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ăsăturile de temperament pot fi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rin dezvoltarea la nivelul caracterului a unor însuşiri care  sa suplineasc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26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to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iferentele dintre oameni au fost sesizate inca din Antichitate de catre medicii Hippocrate si Galenus. Ei au considerat aceste diferente energetice dintre oameni rezulta din amestecul in proportii variabile a umorilor organisme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sange, flegma, bila neagra,bil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galben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i doi medici au impartit oamenii dupa compozitia umorala in 4 categor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gvin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egm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lanco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er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sec. al XIX-lea Pavlov, neurofiziolog rus, a facut cercetari asupra sistemului nervos si a descoperit 3 proprietati ale acestu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hilib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520720" cy="396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4076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poc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v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n combinatiile acestora rezulta 4 tipuri de activitate nevoasa superioa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57080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echilibrat, mobil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ngvi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neechilibrat, mobil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le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ernic, echilibrat, inert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e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b (luat global)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lanc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221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4724280"/>
            <a:ext cx="6769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2879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rcetările moderne, au demonstrat existenţa a patru tipuri de temperamente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ipu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uternic neechilibrat excitabil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relează cu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oleric,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l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uternic echilibrat mobil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se exprimă în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sangvinic,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tipul puternic echilibrat iner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temperamentul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flegmatic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, tipul slab (luat global) fiind pus la baza temperamentului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melancolic.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În descrieri mai vechi se adaugă şi alte criterii de clasificare a temperamentului, cum sunt acelea de: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tenic – astenic, încordat – relaxat, hipertimic – hipotimic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0"/>
            <a:ext cx="6372000" cy="6857280"/>
            <a:chOff x="2771640" y="0"/>
            <a:chExt cx="6372000" cy="6857280"/>
          </a:xfrm>
        </p:grpSpPr>
        <p:sp>
          <p:nvSpPr>
            <p:cNvPr id="57" name=""/>
            <p:cNvSpPr/>
            <p:nvPr/>
          </p:nvSpPr>
          <p:spPr>
            <a:xfrm>
              <a:off x="3043800" y="123480"/>
              <a:ext cx="5866920" cy="610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5360" y="1709640"/>
              <a:ext cx="2963880" cy="308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85000" y="123480"/>
              <a:ext cx="0" cy="61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27280" y="3225240"/>
              <a:ext cx="29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02520" y="2455560"/>
              <a:ext cx="288540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LANCOLIC    COLE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EGMATIC       SANGVI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760" y="327600"/>
              <a:ext cx="13726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20680" y="3045240"/>
              <a:ext cx="1639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ROVER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28000" y="5678640"/>
              <a:ext cx="1372320" cy="4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51920" y="3021120"/>
              <a:ext cx="16772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EXTRAVER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7760" y="711720"/>
              <a:ext cx="2744640" cy="22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astâmpă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res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cit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himbă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tim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12440" y="3358080"/>
              <a:ext cx="274464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i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orbăre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ări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zli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vaci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irit de gr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titudini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39640" y="3388680"/>
              <a:ext cx="2833200" cy="23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i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ijuli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Îngându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ş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n de încred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mper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3800" y="741240"/>
              <a:ext cx="35208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Întris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x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b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sim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zerv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ociab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işt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75560" y="6193440"/>
              <a:ext cx="58669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ificarea categorială a temperamentelor (după Eysenc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74520" y="6839640"/>
              <a:ext cx="63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1640" y="0"/>
              <a:ext cx="2880" cy="68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774520" y="14040"/>
              <a:ext cx="6369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9118440" y="17640"/>
              <a:ext cx="3240" cy="68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404640"/>
            <a:ext cx="403200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ERAMENT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componenta dinamico-energetica a personalitatii care rezulta din influenta tipului de activitate nevoasa superioara (A.N.S) asupra comportament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501336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572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9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89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ericu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eact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otionale puternice si reactivitate motorie accentu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iv si uneori chiar violent, agres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risipa de energie, reusind insa sa-si dovedeasca rapid capacit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tant in relatiile cu ceila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bire inegala, inclinatii spre exage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753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75440" cy="529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50920" y="609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ngvinic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i, vesel, bine dispus, trece totusi de la o traire afectiva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dapteaza relativ usor, ceea ce ii permite stabilirea rapida de relatii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enta a expresiei verbale si fire comuni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 usor decizii, simtind nevoia variatiei situat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4:04:51Z</dcterms:created>
  <dc:creator>daniela</dc:creator>
  <dc:description/>
  <cp:keywords>tipuri</cp:keywords>
  <dc:language>en-US</dc:language>
  <cp:lastModifiedBy>Giani</cp:lastModifiedBy>
  <dcterms:modified xsi:type="dcterms:W3CDTF">2008-02-05T21:34:30Z</dcterms:modified>
  <cp:revision>22</cp:revision>
  <dc:subject/>
  <dc:title>TEMPERAMENTUL </dc:title>
</cp:coreProperties>
</file>